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FC92A-A240-40D2-9937-4CE936736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BF4EA-A362-4359-8CB5-B99DE8345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A0393-2CA5-4DA6-87DB-2563D642E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151D9-9A96-44C6-8881-938DD2044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6D929-D8E0-4BC7-B596-1C2468394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E1B12-90A3-4F4C-AE0D-29CE65B61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516CB-779A-479D-937E-F5B5A0768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C4D02-6E77-4DB7-937E-E66304509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6D2E6-978A-46A9-B8A3-6B0307E0E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385E9-7C0F-40DA-91BD-7E5F22592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8CDDF-DCED-4713-836B-BABA37A1B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37377-5050-4C95-9675-DA8A06608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A666F-E7EE-451B-9429-E7D259B07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4B339-D322-4979-A327-F2C37BBA0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C7134-D470-4091-9682-1455661C7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64152-C476-476B-90FB-5BF10D1B8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C2728-97C7-4BB7-91D3-49344284A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9E935-70B2-4B99-8E13-4954E4644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DCA84-4AC9-48BA-AD0D-E778888F2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DD6EA-C951-4F17-A482-B9FC5BF6B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655A1-3F4B-4F5C-87F2-662E7B618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78A09-DD11-44F9-9454-9866AD93D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E956D-8095-434B-90EA-24CD2C341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D4A6C-62A8-472C-A43C-D074548CB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8CF5B-0206-4B45-A7C7-3FDFBADAB145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9FD3A-863E-4592-8C77-5C472D01CA28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5</a:t>
            </a: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장 학습장애아 교육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념과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IQ 85-100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기교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1.7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편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부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통 이상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환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low achievemen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지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IQ 85-70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반복 학습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slow learner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e5ffff"/>
                </a:solidFill>
                <a:latin typeface="굴림"/>
              </a:rPr>
              <a:t>원인 및 출현율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추신경계의 이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좌반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선형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위계적과 체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논리적과 계획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청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실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우반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종합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무선적과 비형식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직관적과 우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공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상 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두뇌의 미세 기능 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보차이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인지적 결함의 오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원인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반적인 원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보처리의 한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경적인 영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특수아동 출현율 중 가장 높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학습장애의 분류 및 특성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의 유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특정학습장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읽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쓰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말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듣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셈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생각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80%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 읽기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행동적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진단 평가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특수교육진흥법에서는 학습장애를 진단 평가하는 도구로는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능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2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초학습기능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3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학습준비도 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4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시지각발달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5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각운동발달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6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시각운동통합발달검사 등을 제시하였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진정한 평가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수행평가와 교육과정중심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Authentic Assessment: ‘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실제’의 생활에서 읽고 쓰는 능력을 가장 밀접하게 사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속적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수학습에 정보를 제공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육과정에 통합되어져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발달에 있어서 적절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자아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평가를 인식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활동적인 협동학습이 가능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참고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Fuuntas &amp; Pinnell, 2001, p.484)  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교육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습의 필수조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주의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중재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기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동기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효과적인 교수활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읽기에 대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쓰기에 대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난독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수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생각하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질문하세요</a:t>
            </a: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!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2484360" y="1916280"/>
            <a:ext cx="417528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9T03:52:24Z</dcterms:created>
  <dc:creator>.</dc:creator>
  <dc:description/>
  <dc:language>en-US</dc:language>
  <cp:lastModifiedBy>f</cp:lastModifiedBy>
  <dcterms:modified xsi:type="dcterms:W3CDTF">2007-04-05T02:46:59Z</dcterms:modified>
  <cp:revision>8</cp:revision>
  <dc:subject/>
  <dc:title>제 5장 과학교육과정</dc:title>
</cp:coreProperties>
</file>