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381D-D575-48C4-AF88-F933B8555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4983-64D6-40FC-9CBD-DCF81FA3C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259E-FE4C-4112-826C-14903EAEF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7FCF-8CEF-42F3-9321-390E9FEEF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63F5E-4359-41D6-84C8-251457B2A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91D4D-1EE9-4FD3-B345-176CCA799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16B30-10E0-40C9-95E7-9C7ACC1EF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0A15A-47D8-45AA-A04E-968B07A26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4255C-BF42-4B3C-9BAE-F86E532B4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6BF6A-61C9-4BCC-A96D-5DC5C4C1A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84541-7C1C-43F9-A0AF-7CA4AF260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F9CE-7773-40BE-96D9-3358936BB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38084-AE70-48D5-B3F7-DC3E6D223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7643F-0F4E-48AD-8AE2-6BFB3F77B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A3664-DD6A-4565-BF28-661812404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ECA49-9CDE-4639-B5CA-1FAA1250A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C4B82-16F5-4BD3-BD22-995057527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D352-55D7-4D69-9BE8-7E253BC09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CC0B-6E82-4944-97AF-1F67E5454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0038-59B9-4655-8407-5D3C5AD40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3F4B-B085-498D-B060-DD4C8292F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C986-A24D-4B00-A93B-120442EA5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0CB8-E307-44FC-9A68-CBFF2D3F5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4DEF-F405-497D-A98B-DA8FBA4E4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2EEC8-BDE8-43B3-A2EB-FEEA508B4A8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ECE3F-68F7-4B70-A2D1-646CC06DBF0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제 </a:t>
            </a: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12</a:t>
            </a: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장 중도 중복장애아 교육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도 중복장애아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에 제시 없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업재활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증장애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중 근로능력이 현저하게 상실된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사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신장애의 정도가 무겁고 또한 장애가 두 가지 혹은 그 이상 중복해 있는 경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중도 중복장애의 정의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미국의 중증장애인협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통합된 지역사회에 참여하고 장애와 관계없이 모든 시민들이 누릴 수 있는 질적인 삶을 즐기기 위한 한 가지 이상의 주요 활동에 있어서 확장적이고 지속적인 지원을 필요로 하는 개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정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 정도가 심하거나 두 가지 이상 중복된 경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IQ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와 적응행동에 현저한 결함이 있어 학습에 확장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속적 지원을 필요로 하는 아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본인과 가족에게 거부감을 줄 수 있음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학습지도 방법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팀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간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과제분석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개별 및 그룹 지도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매체 활용과 재활공학 기구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의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합환경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평가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유의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 조건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의 순서 파악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한 변화에 대처하는 미시적 관점의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밀한 관찰과 기록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다면적이고 종합적인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문제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연구보다는 교사의 관찰과 노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장애의 유형과 정도 다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수준의 복잡성과 다양성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록에 의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 발달의 평가 한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차후 교육을 위한 평가로 활용되어야 함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질문을 위한 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초의 인내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619280" y="1700280"/>
            <a:ext cx="590544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1:32:17Z</dcterms:created>
  <dc:creator>.</dc:creator>
  <dc:description/>
  <dc:language>en-US</dc:language>
  <cp:lastModifiedBy>f</cp:lastModifiedBy>
  <dcterms:modified xsi:type="dcterms:W3CDTF">2007-05-17T01:49:17Z</dcterms:modified>
  <cp:revision>7</cp:revision>
  <dc:subject/>
  <dc:title>제 12장 개별 사정과 교육계획</dc:title>
</cp:coreProperties>
</file>