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E5DE6-B9A5-443E-A20A-4DC286B0E6D0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B2CFA-20F2-4612-92BE-5323338CA1F0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947A-8DB1-4F28-9C63-124012D59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5DF8-4434-44CD-9CCC-9FDDCCBCF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6F47-B6D9-4327-BCF0-CDE106B4C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44D4-DD42-4027-A73B-7499D9802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021D-C6F8-4B5E-8184-7BBEEB9EE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ACC9-8CEF-4656-B659-DD08F4182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2C68-34A0-4D6C-8AA4-EBD0F36F9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7CB8-13BD-4EA2-BDBC-E0503DCCC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9C00-1F65-4CCC-B437-E3C2D2B46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D7BE-E6DD-4395-9C92-B61D340CD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7146-6BE7-4192-837E-60DEC3F34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BDEA-F31F-4FE2-BC87-E78AF66AD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6F236-D443-445A-A2FD-E5F80F8A3DD4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6000840"/>
          <a:ext cx="6215040" cy="107316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55720"/>
                <a:gridCol w="717480"/>
              </a:tblGrid>
              <a:tr h="23292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714384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484200"/>
                <a:gridCol w="1230120"/>
                <a:gridCol w="571680"/>
                <a:gridCol w="642960"/>
                <a:gridCol w="866520"/>
                <a:gridCol w="865440"/>
                <a:gridCol w="98244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장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4643280"/>
          <a:ext cx="6215040" cy="130176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684360"/>
                <a:gridCol w="730080"/>
              </a:tblGrid>
              <a:tr h="3625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4000680"/>
          <a:ext cx="6215040" cy="56808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19548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205740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54" name="Picture 240" descr=""/>
          <p:cNvPicPr/>
          <p:nvPr/>
        </p:nvPicPr>
        <p:blipFill>
          <a:blip r:embed="rId1"/>
          <a:stretch/>
        </p:blipFill>
        <p:spPr>
          <a:xfrm>
            <a:off x="357120" y="285840"/>
            <a:ext cx="949320" cy="428400"/>
          </a:xfrm>
          <a:prstGeom prst="rect">
            <a:avLst/>
          </a:prstGeom>
          <a:ln w="0">
            <a:noFill/>
          </a:ln>
        </p:spPr>
      </p:pic>
      <p:sp>
        <p:nvSpPr>
          <p:cNvPr id="55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5873040" y="47844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입사원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57120" y="75708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48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71520" y="2697120"/>
          <a:ext cx="6205320" cy="1241640"/>
        </p:xfrm>
        <a:graphic>
          <a:graphicData uri="http://schemas.openxmlformats.org/drawingml/2006/table">
            <a:tbl>
              <a:tblPr/>
              <a:tblGrid>
                <a:gridCol w="571320"/>
                <a:gridCol w="571680"/>
                <a:gridCol w="1143000"/>
                <a:gridCol w="700200"/>
                <a:gridCol w="1008000"/>
                <a:gridCol w="1025280"/>
                <a:gridCol w="54612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76280" y="565200"/>
          <a:ext cx="5952960" cy="61498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47448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3556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984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0" name="Picture 240" descr=""/>
          <p:cNvPicPr/>
          <p:nvPr/>
        </p:nvPicPr>
        <p:blipFill>
          <a:blip r:embed="rId1"/>
          <a:stretch/>
        </p:blipFill>
        <p:spPr>
          <a:xfrm>
            <a:off x="479520" y="9684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"/>
          <p:cNvSpPr/>
          <p:nvPr/>
        </p:nvSpPr>
        <p:spPr>
          <a:xfrm>
            <a:off x="455760" y="7826400"/>
            <a:ext cx="5946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4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500040" y="678672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7T02:51:31Z</dcterms:modified>
  <cp:revision>123</cp:revision>
  <dc:subject/>
  <dc:title>슬라이드 1</dc:title>
</cp:coreProperties>
</file>