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86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57206-C11B-4D2A-8850-1C969BD951CF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A1A1-51C1-4E2D-87F1-076A80337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FFAF-9128-4A8E-B029-FED809954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E05477-A536-4354-930D-347921326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205B27-4223-4754-B0D5-727691FA6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9596C2-30E2-49F2-9715-A020EF0BF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F8C0A9-4999-4DAE-A508-0CC57480F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CE1000-FC30-4D61-A83C-A9815DB25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8A50E8-D256-41FC-A519-5B1660224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529334-1000-400F-80CC-529219FAF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A47904-6A90-463C-A0AA-4F0FBC40E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429C92-B877-4CC5-8317-66A0B1D86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FF5773-A1A5-4329-B80F-0E5F263D2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E8CF-EA72-4E0B-A5A8-71F20C4DE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97FD80-E033-43D3-A04E-9BD5B7507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2B3150-CA2B-440A-B351-BB714D74B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403FE2-D200-46CA-8CCF-78BCD8CF2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A408BF-75DE-4F1B-955A-E4E303E74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714FD1-F77F-4ED9-8A57-04C2567B9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937612-4A85-4F97-9354-C40868CC4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F183B1-46B7-45AE-8A57-FCC2AD5AF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F61739-E1CB-4689-81D0-A3C88386C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7076D6-B922-443D-8EAD-E1A328C7B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F4CC84-014F-4E7D-9AD7-3C97704E3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F163-D729-4055-BA74-D89601667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C469F8-D880-4847-8BB5-9C4B3AE99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366743-B816-4097-9A7B-5DC188548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7D5C90-0756-4843-9BF8-FEAFC9AF5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44CD78-E3A8-4F53-A7E0-62A16676C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126FEE-342F-4B69-9E4F-E6BE95879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F2EAB9-4735-40FC-A805-096E86612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2F18F8-95AF-4786-9FB6-38083B63F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AC3CE3-DF17-471C-BA2A-DED6AFA8A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CF9814-2F6F-482A-9B5A-EB44E7D88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514F01-047F-46DA-AE4B-DAC8A492A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9BC77-AB11-4C35-9751-67891570F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DB3469-4AF6-41D8-87FC-AE9D41536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2FDCAC-FB4A-443A-B06D-211F8A6C7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EC0F67-6DE8-4303-BC5A-BCF8BA9D9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5F59B4-31EE-43AC-B315-49ADD389C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8D8588-082D-462B-BA2C-5C8A39DE5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7FA403-1CD1-4031-8A60-A222D6AE8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CF0BE8-E498-42EE-8F7C-17B655023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391087-2808-43AB-869A-8092AE192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814945-0DCC-44B7-B21B-2971F32FB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7489B3-D358-4921-90A4-55B334ADB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556A5-5B98-400E-A3C4-69DB3E787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13510A-81F4-4280-84BD-BEA330372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74ECC6-BB24-4C4C-8883-CA143F6FD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C6FD74-CB94-4BDF-80D8-DF64D71A2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F77926-7970-44FB-B0F8-2C843DE3C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48AE13-5313-417F-AF96-3225C93FE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BFD2FC8-E34A-46B3-A813-788AC8DF2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0283758-2ED6-4A84-991E-5E9135921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9B7CE2E-AE8D-433C-9AF5-13C8D5D67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E58B254-397D-41A0-8D4C-F7A495A4B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1771D97-E773-4CFA-84AD-2DC6C1B4D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95FF8-E10B-4151-93F8-D0373F3CE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23F36A7-C30E-49C2-9DD9-4DF40B955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869887D-C854-43E4-A32B-9088D9A3D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5EFBCC6-30C3-4AFD-B006-8609B405F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E5DA99F-B52B-4E4B-AE11-C18771C1F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010F0BF-6DB6-436A-83A4-224B8F9FC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ACFE3CA-303F-4BD7-8512-4822EB303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7D8F057-58A5-40E7-BFE3-8847F2D51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B8363-C273-4F77-A5AD-266769297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C66AE-E682-4903-9321-757CCB143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79AFA-D698-4752-A51D-3A86982DD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BCE45-75F8-4523-8202-65698051F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08A7-86A0-4443-8B40-685E9DB69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D908D-514C-4711-A42A-2438CFFD1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FEB2F-3898-436E-BE53-63684A56F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87A4E-C60E-4582-9DC9-111369A2E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3755F-1CA5-4589-8DAE-6A2BE7F25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88E00-B584-4D3B-A780-04E91479E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CD01C-5931-4E43-82CC-05E47DA05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2656F-5E34-4425-925A-3309EC650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9EB9F-7ADC-4F15-AD9A-ECE88DAF3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53A09-121D-45BD-A88F-C72BA33E6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99535-D62C-42D6-9F67-609F6773D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ACE3-97EB-4385-8945-6109365BB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8B44D-0E48-4F76-8596-1A26236F7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0CF0A-234B-4D9B-9F81-778ACD9F7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D1E87-63F6-4E28-9FFE-35FD3DC6C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24D8B-897F-4E19-9589-B77FE5B0F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29C49-7F18-4AAA-951F-9AC5D173F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EEFEC-3B85-4B54-B620-81F2DF29A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3F7B8-635A-4D23-9B52-B2E398DA0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8D3176-9116-4DE7-A0D8-9DC88E083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E67DE-463F-4503-A422-6CE067219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B410B-23A6-46B4-A7E8-D4AC4F90F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372F-FE94-4EFE-BF7A-9111D9D82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A8072-0FFB-4EE8-BE61-3B67DCB5C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AFEE97-A8CA-4866-845C-151A116AD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F348D-CB11-4599-AB0F-A19FDB7F8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3945F-7739-4EB5-89AC-1AEBFDAA2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02E9D-F261-41DE-A5E6-181EA03D9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3F984-CF97-43C6-8ACD-3E61E052B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D6014-84F8-456C-9A41-8F570436E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E1457-C3D1-4DE4-9595-DA37B39EB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3B7FA-1C3D-4DCB-80E6-A27EA2C80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BED341-6B8C-4764-B3F2-902A260F9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064B-6A19-405F-906A-D6E69B720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89885F-4D40-4C69-9133-D50436371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84376E-3D91-45F6-BDB6-C6E41C846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71F23A-0213-4484-BEA4-1D37A55F0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564A8D-4292-43D4-A577-849F1A225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04AB5F-A5C7-4BEB-AFF2-228683CC1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6AC8D2-4899-475C-9483-17ED93163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74CD65-F06B-4683-9696-9D9B6C2C9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F45D19-2A29-4A1F-AD87-8652B223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B0EDC1-863E-4AAB-9887-6F065C2D5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8D85A1-73C5-4538-9631-C1DDCB25B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96D4-1FD0-4D5A-816C-AEBF896C3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4078B2-FD94-4EFE-9A6D-74B280C5F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36AFF0-9CA4-4873-BD45-C383FF4F9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CAE7B2-008D-4C4C-999C-CA647B519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E332BA-1827-412D-90DC-16C2D6AAF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A9D0E6-3B40-4E74-AB0A-4CF12C4C9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A7D7A4-8D70-42E8-A244-4357FF720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F1550C-396E-4F5A-9279-BE074AF91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C2EF37-083E-4023-AB77-02BEF957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551178-17FD-4E82-8405-8A19D204C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880062-6883-4861-9A86-05E086A8D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92CD-6350-49AD-B1D3-528F076CA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C128F6-7DCC-4F0B-96EA-336C46F8D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ACF047-48A2-48E5-AB9F-7B3D3A5DB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D62A32-FAD6-4B9C-BB36-D0895A462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68851B-6F5C-42A0-952A-C19E1D7C5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1E7E3A-FB6B-4DEF-826D-628017B93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9C2FDA-469A-4318-AF07-5DEF33986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F66421-AA09-4BE5-AF67-91F3A6F45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0874F1-8EB9-4582-8CA0-21E16DFB3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885C01-538C-44AD-B96E-975A8B99A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41042B-05E2-4A1E-B29E-A9DD383E1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0F40-80C0-4A2E-A93D-1C25B4DE0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6A560C-E24A-46F3-AC7F-985F37D67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14CB18-1B08-4EB1-8E55-421763E1A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C8431C-ED18-493A-9ED4-A81227724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B3D1B5-D73D-473D-9636-600AEE926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EC9C15-FB1D-41DC-A332-00C02361F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6E497B-B20A-4517-8B81-A7BC3B61F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FFD8E4-DA36-4CCD-819B-931A4C45D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101886-4349-4A42-A82C-1EF6B3E48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F202AB-66ED-48A8-806F-3E2685E9A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D9BC79-2AA9-470F-B3F7-B9B886F11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DC33-2323-4969-9AD8-8F206A37C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CB409F-EC6F-4BAC-B964-7594DE2FA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3A72DF-BCC2-4947-8EEA-42F0DFAA0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54EDD4-B5EE-4B5B-8341-403DD8B23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2124A2-5926-40BC-953B-685548522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EDB805-5216-448E-B824-B9BF34F83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A177D1-0D4C-40F1-91BB-98174EF93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7C1C91-D1DC-4A2E-A539-C509CA600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97AEA7-1830-45B9-BF02-484F754B1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EAA7C5-9720-4F44-85B1-9B466CC95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E4BDCE-C02C-4A61-9E46-499659DB9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4F477-9642-4D13-987D-809CFFB5FA4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05E52-842B-4CB4-AFA6-B8B2CF701F9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D3893-9410-4808-B8A8-02ED07959D7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9FB80-F566-43C3-8883-9298B7B711A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CB9AB-FCEE-406B-986A-947EB1D42FF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68BDB-83E7-42D3-B329-029BD88DC5E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65D02-D18A-41F2-97C8-8E42D42CAA2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66BCB-D099-41EC-8849-DC91791E24B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7BCBE-51E0-40F5-9DF8-2125F8DF6D2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D1DC7-58C0-494F-A603-25E0BF70ED1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69B5B-9799-44AA-8CAC-A3677069F7E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13989-B797-4A1E-BC95-936F87B41EB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DEAF2-F996-44EE-9F60-88BA4F65E78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18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84480" y="2357280"/>
              <a:ext cx="3080880" cy="3357000"/>
              <a:chOff x="384480" y="2357280"/>
              <a:chExt cx="308088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84480" y="2357280"/>
                <a:ext cx="3080880" cy="3357000"/>
                <a:chOff x="384480" y="2357280"/>
                <a:chExt cx="308088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84480" y="2357280"/>
                  <a:ext cx="3080880" cy="3357000"/>
                </a:xfrm>
                <a:custGeom>
                  <a:avLst/>
                  <a:gdLst>
                    <a:gd name="textAreaLeft" fmla="*/ 150120 w 3080880"/>
                    <a:gd name="textAreaRight" fmla="*/ 2930760 w 3080880"/>
                    <a:gd name="textAreaTop" fmla="*/ 150120 h 3357000"/>
                    <a:gd name="textAreaBottom" fmla="*/ 3206880 h 3357000"/>
                  </a:gdLst>
                  <a:ahLst/>
                  <a:rect l="textAreaLeft" t="textAreaTop" r="textAreaRight" b="textAreaBottom"/>
                  <a:pathLst>
                    <a:path w="21600" h="23536">
                      <a:moveTo>
                        <a:pt x="3600" y="0"/>
                      </a:moveTo>
                      <a:arcTo wR="3600" hR="3600" stAng="16200000" swAng="-5400000"/>
                      <a:lnTo>
                        <a:pt x="0" y="19936"/>
                      </a:lnTo>
                      <a:arcTo wR="3600" hR="3600" stAng="10800000" swAng="-5400000"/>
                      <a:lnTo>
                        <a:pt x="18000" y="2353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84480" y="2357280"/>
                  <a:ext cx="57060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55760" y="2441160"/>
                <a:ext cx="2939760" cy="3217680"/>
                <a:chOff x="455760" y="2441160"/>
                <a:chExt cx="293976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55760" y="2441160"/>
                  <a:ext cx="2939760" cy="3217680"/>
                </a:xfrm>
                <a:custGeom>
                  <a:avLst/>
                  <a:gdLst>
                    <a:gd name="textAreaLeft" fmla="*/ 143280 w 2939760"/>
                    <a:gd name="textAreaRight" fmla="*/ 2796480 w 2939760"/>
                    <a:gd name="textAreaTop" fmla="*/ 143280 h 3217680"/>
                    <a:gd name="textAreaBottom" fmla="*/ 3074400 h 3217680"/>
                  </a:gdLst>
                  <a:ahLst/>
                  <a:rect l="textAreaLeft" t="textAreaTop" r="textAreaRight" b="textAreaBottom"/>
                  <a:pathLst>
                    <a:path w="21600" h="23642">
                      <a:moveTo>
                        <a:pt x="3600" y="0"/>
                      </a:moveTo>
                      <a:arcTo wR="3600" hR="3600" stAng="16200000" swAng="-5400000"/>
                      <a:lnTo>
                        <a:pt x="0" y="20042"/>
                      </a:lnTo>
                      <a:arcTo wR="3600" hR="3600" stAng="10800000" swAng="-5400000"/>
                      <a:lnTo>
                        <a:pt x="18000" y="2364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55760" y="2441160"/>
                  <a:ext cx="54468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94360" y="3143160"/>
                <a:ext cx="263772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28760" y="2401560"/>
              <a:ext cx="21394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357120" y="3315960"/>
              <a:ext cx="314316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31360" y="2344680"/>
            <a:ext cx="21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특수 아동의 유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34320" y="3267000"/>
            <a:ext cx="228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미국 장애인 교육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37320" y="418788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 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B7307-0B03-4E6D-8268-374BFA3E9A6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175360" y="506520"/>
            <a:ext cx="372420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4" name=""/>
          <p:cNvGraphicFramePr/>
          <p:nvPr/>
        </p:nvGraphicFramePr>
        <p:xfrm>
          <a:off x="714240" y="3214800"/>
          <a:ext cx="7858440" cy="3132000"/>
        </p:xfrm>
        <a:graphic>
          <a:graphicData uri="http://schemas.openxmlformats.org/drawingml/2006/table">
            <a:tbl>
              <a:tblPr/>
              <a:tblGrid>
                <a:gridCol w="1546200"/>
                <a:gridCol w="63122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8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영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 이상이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분야에서 탁월한 재능을 보이는 학습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지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유의하게 낮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Q 70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적응행동 결손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실용적 및 사회적 지능이 있는 장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높지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교과의 학습이나 인지과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;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언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메타인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에 문제가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ADH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의력결핍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과잉활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충동성 등의 특징을 갖고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AB5A9-778D-44A5-B000-154AB0CDB0A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8" name="직사각형 14"/>
              <p:cNvSpPr/>
              <p:nvPr/>
            </p:nvSpPr>
            <p:spPr>
              <a:xfrm>
                <a:off x="1468440" y="138600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특수학습자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43"/>
          <p:cNvGrpSpPr/>
          <p:nvPr/>
        </p:nvGrpSpPr>
        <p:grpSpPr>
          <a:xfrm>
            <a:off x="571680" y="1876320"/>
            <a:ext cx="8072280" cy="1452240"/>
            <a:chOff x="571680" y="1876320"/>
            <a:chExt cx="8072280" cy="1452240"/>
          </a:xfrm>
        </p:grpSpPr>
        <p:pic>
          <p:nvPicPr>
            <p:cNvPr id="797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2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8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799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0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직사각형 19"/>
            <p:cNvSpPr/>
            <p:nvPr/>
          </p:nvSpPr>
          <p:spPr>
            <a:xfrm>
              <a:off x="928800" y="200016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수학습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ceptional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learner)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능력이 특별히 높거나 반대로 능력이 특별히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낮은 학습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 및 행동의 측면에서 정상범주에서 이탈된 학습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TextBox 9" descr=""/>
          <p:cNvPicPr/>
          <p:nvPr/>
        </p:nvPicPr>
        <p:blipFill>
          <a:blip r:embed="rId1"/>
          <a:stretch/>
        </p:blipFill>
        <p:spPr>
          <a:xfrm>
            <a:off x="5181480" y="506520"/>
            <a:ext cx="359748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3" name=""/>
          <p:cNvGraphicFramePr/>
          <p:nvPr/>
        </p:nvGraphicFramePr>
        <p:xfrm>
          <a:off x="635040" y="1928880"/>
          <a:ext cx="7873920" cy="4513320"/>
        </p:xfrm>
        <a:graphic>
          <a:graphicData uri="http://schemas.openxmlformats.org/drawingml/2006/table">
            <a:tbl>
              <a:tblPr/>
              <a:tblGrid>
                <a:gridCol w="1650960"/>
                <a:gridCol w="6222960"/>
              </a:tblGrid>
              <a:tr h="37152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90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말하기 및 소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업수행을 심각하게 방해하는 말 혹은 언어이해의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서 및 행동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간 지속되고 학업을 심각하게 방해하는 정서 혹은 행동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폐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상호작용 및 소통의 손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반복적인 행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정된 흥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측가능한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환경에 대한 강박적인 요구를 특징으로 하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체 및 건강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제한된 에너지와 활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적 민감성의 둔화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육의 통제 결여 중 하나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상의 특징을 갖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있는 신체 혹은 의학적 조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시각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시지각을 방해하는 눈 혹은 시신경의 기능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각 상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말의 빈도 범위에서 소리지각을 방해하는 귀 혹은 관련 신경의 기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1D238-B170-4185-975F-308F6B7DE3B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5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06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0843E-99C1-4D8B-9B13-1771F86895F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0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09" name="직사각형 14"/>
              <p:cNvSpPr/>
              <p:nvPr/>
            </p:nvSpPr>
            <p:spPr>
              <a:xfrm>
                <a:off x="1504080" y="1386000"/>
                <a:ext cx="1596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미국 장애인 교육법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3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7" name="그룹 43"/>
          <p:cNvGrpSpPr/>
          <p:nvPr/>
        </p:nvGrpSpPr>
        <p:grpSpPr>
          <a:xfrm>
            <a:off x="571680" y="1876320"/>
            <a:ext cx="8072280" cy="695520"/>
            <a:chOff x="571680" y="1876320"/>
            <a:chExt cx="8072280" cy="695520"/>
          </a:xfrm>
        </p:grpSpPr>
        <p:pic>
          <p:nvPicPr>
            <p:cNvPr id="81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695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9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82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1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2" name="직사각형 19"/>
            <p:cNvSpPr/>
            <p:nvPr/>
          </p:nvSpPr>
          <p:spPr>
            <a:xfrm>
              <a:off x="928800" y="200016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1975</a:t>
              </a: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년 장애 학생이 무상 공교육을 받을 수 있도록 제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직사각형 16"/>
          <p:cNvSpPr/>
          <p:nvPr/>
        </p:nvSpPr>
        <p:spPr>
          <a:xfrm>
            <a:off x="285840" y="2890800"/>
            <a:ext cx="8572320" cy="30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무상의 적절한 공교육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Free Appropriate Public Education: FAP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에게 무상으로 적절한 공교육 제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교육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인에게 교육적 수혜를 제공하기 위해 특별히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  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별적으로 고안된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통합을 향한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Mainstreaming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의 선택된 활동만을 위해서라도 특수학생들을 분리된 학급에서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규 학급으로 이동시키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점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 등이 종종 필요한 조력을 받을 수 없는 교실에 배치됨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4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2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A9431-E826-4797-A01A-1F0D5C7C11E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직사각형 16"/>
          <p:cNvSpPr/>
          <p:nvPr/>
        </p:nvSpPr>
        <p:spPr>
          <a:xfrm>
            <a:off x="142920" y="1857240"/>
            <a:ext cx="8929800" cy="34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Least Restrictive Environment : LRE)</a:t>
            </a:r>
            <a:r>
              <a:rPr b="0" lang="en-US" sz="17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의 문제점에 대한 대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buClr>
                <a:srgbClr val="424456"/>
              </a:buClr>
              <a:buFont typeface="휴먼모음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특수한 욕구를 만족시키면서 가능한 한 일반학교에 배치하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일제로 일반학급에 배치하는 것으로부터 분리 시설에 수용하는 것까지의 연속상의 서비스로 구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응적 일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이 특정학교에서 요구를 충족시킬 수 있는 정도와 학교가 욕구를 충족시킬 수 있는 정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LRE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의 중심 개념으로 특수학생의 교육을 위한 개별화 접근을 중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7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28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549C8-A341-4E06-9CEF-1ABEF41DC1D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9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0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1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5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3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7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8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40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41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42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3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4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5" name="직사각형 16"/>
          <p:cNvSpPr/>
          <p:nvPr/>
        </p:nvSpPr>
        <p:spPr>
          <a:xfrm>
            <a:off x="285840" y="2786040"/>
            <a:ext cx="8572320" cy="39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전략 원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들의 학습을 증진시틸 효과적 교수방법 사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의 필요에 맞는 수업 활동 및 과제 설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 욕구 충족 위한 조정된 독서 자료 준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전략을  적극적으로 가르칠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성장과 교실 내 통합을 위한 계획 실행</a:t>
            </a:r>
            <a:br>
              <a:rPr sz="1800"/>
            </a:br>
            <a:r>
              <a:rPr b="0" lang="ko-KR" sz="1800" spc="-1" strike="noStrike">
                <a:solidFill>
                  <a:srgbClr val="000000"/>
                </a:solidFill>
                <a:latin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지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체 학생이 제자리에서 개별 과제 수행 시에도 교사가 개인적으로 혹은 소그룹 학생과 과제 수행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가적인 조정사항의 예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5.4&gt; p. 2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6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4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0591C-564B-403E-B8C2-D4EA0A52B4E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50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4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8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5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0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6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2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3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16"/>
          <p:cNvSpPr/>
          <p:nvPr/>
        </p:nvSpPr>
        <p:spPr>
          <a:xfrm>
            <a:off x="285840" y="2786040"/>
            <a:ext cx="8572320" cy="33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행동을 학습하도록 돕기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 개선의 두 가지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담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응용행동분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코치와 시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호작용과 협력을 증진시키기 위한 전략들 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학생만큼 특수학생도 자주 호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협동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또래 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조적 테크놀로지 활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28T00:35:24Z</dcterms:modified>
  <cp:revision>363</cp:revision>
  <dc:subject/>
  <dc:title>PowerPoint Template</dc:title>
</cp:coreProperties>
</file>